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539640"/>
            <a:ext cx="770256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3e7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0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4360" y="4496760"/>
            <a:ext cx="770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539640"/>
            <a:ext cx="770256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3e7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3758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1400" y="2133360"/>
            <a:ext cx="3758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360" y="4496760"/>
            <a:ext cx="3758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1400" y="4496760"/>
            <a:ext cx="3758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539640"/>
            <a:ext cx="770256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3e7a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2480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8960" y="2133360"/>
            <a:ext cx="2480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93200" y="2133360"/>
            <a:ext cx="2480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4360" y="4496760"/>
            <a:ext cx="2480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8960" y="4496760"/>
            <a:ext cx="2480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93200" y="4496760"/>
            <a:ext cx="2480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360" y="539640"/>
            <a:ext cx="770256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3e7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4360" y="2133360"/>
            <a:ext cx="77025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360" y="539640"/>
            <a:ext cx="770256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3e7a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0256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539640"/>
            <a:ext cx="770256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3e7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375876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1400" y="2133360"/>
            <a:ext cx="375876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539640"/>
            <a:ext cx="770256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3e7a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360" y="539640"/>
            <a:ext cx="7702560" cy="66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539640"/>
            <a:ext cx="770256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3e7a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3758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1400" y="2133360"/>
            <a:ext cx="375876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4360" y="4496760"/>
            <a:ext cx="3758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539640"/>
            <a:ext cx="770256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3e7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375876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1400" y="2133360"/>
            <a:ext cx="3758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1400" y="4496760"/>
            <a:ext cx="3758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539640"/>
            <a:ext cx="770256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3e7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3758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1400" y="2133360"/>
            <a:ext cx="3758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4360" y="4496760"/>
            <a:ext cx="770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539640"/>
            <a:ext cx="770256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3e7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3e7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2133360"/>
            <a:ext cx="770256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1"/>
          <p:cNvSpPr/>
          <p:nvPr/>
        </p:nvSpPr>
        <p:spPr>
          <a:xfrm>
            <a:off x="539640" y="1395360"/>
            <a:ext cx="7704360" cy="25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Trebuchet MS"/>
              </a:rPr>
              <a:t>4 év, 448 felad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Trebuchet MS"/>
              </a:rPr>
              <a:t>Norvég Civil Támogatási Ala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Trebuchet MS"/>
              </a:rPr>
              <a:t>2012-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rebuchet MS"/>
              </a:rPr>
              <a:t>Móra Veron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49016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u-HU" sz="3600" spc="-1" strike="noStrike">
                <a:solidFill>
                  <a:srgbClr val="003e7a"/>
                </a:solidFill>
                <a:latin typeface="Trebuchet MS"/>
              </a:rPr>
              <a:t> </a:t>
            </a:r>
            <a:r>
              <a:rPr b="0" lang="hu-HU" sz="3600" spc="-1" strike="noStrike">
                <a:solidFill>
                  <a:srgbClr val="003e7a"/>
                </a:solidFill>
                <a:latin typeface="Trebuchet MS"/>
              </a:rPr>
              <a:t>Eredmények 4 év után</a:t>
            </a:r>
            <a:endParaRPr b="0" lang="en-US" sz="3600" spc="-1" strike="noStrike">
              <a:solidFill>
                <a:srgbClr val="003e7a"/>
              </a:solidFill>
              <a:latin typeface="Trebuchet MS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611280" y="189000"/>
            <a:ext cx="7156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4600" indent="-17460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821400"/>
                </a:solidFill>
                <a:latin typeface="Trebuchet MS"/>
              </a:rPr>
              <a:t> </a:t>
            </a:r>
            <a:r>
              <a:rPr b="0" lang="hu-HU" sz="1400" spc="-1" strike="noStrike">
                <a:solidFill>
                  <a:srgbClr val="821400"/>
                </a:solidFill>
                <a:latin typeface="Trebuchet MS"/>
              </a:rPr>
              <a:t>A program kerete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Kép 1" descr="C:\Users\move\Downloads\NCTA_indikatorok_vallalasok_cimmel.png"/>
          <p:cNvPicPr/>
          <p:nvPr/>
        </p:nvPicPr>
        <p:blipFill>
          <a:blip r:embed="rId2"/>
          <a:stretch/>
        </p:blipFill>
        <p:spPr>
          <a:xfrm>
            <a:off x="1476360" y="1319040"/>
            <a:ext cx="6227640" cy="51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611280" y="189000"/>
            <a:ext cx="7156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4600" indent="-17460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821400"/>
                </a:solidFill>
                <a:latin typeface="Trebuchet MS"/>
              </a:rPr>
              <a:t>A konferencia program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0"/>
          <p:cNvSpPr/>
          <p:nvPr/>
        </p:nvSpPr>
        <p:spPr>
          <a:xfrm>
            <a:off x="468360" y="677880"/>
            <a:ext cx="820728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Április 6. – ‘Magyar Nap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Trebuchet MS"/>
              </a:rPr>
              <a:t>10.00-11.00 Megnyi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- A támogatók képviselőjének köszöntője: Olav Berstad, a Norvég Királyság nagyköv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- A Nemzeti Kapcsolattartó képviselőjének köszöntője: Savanyú Adrián főosztályvezető, Miniszterelnökség, Nemzetközi Fejlesztési Programok Végrehajtásáért Felelős Főosztá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- Az EGT/Norvég Alapok - Paivi Anttila, vezető szektormunkatárs, Finanszírozási Mechanizmus Ir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- Fő adatok és tudnivalók az NCTA-ról – Móra Veronika, igazgató, Ökotárs Alapítvá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Trebuchet MS"/>
              </a:rPr>
              <a:t>11.30-13.00 Az NCTA programszintű értékelése – eredmények és hatás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- 3 részben, a lebonyolító alapítványok értékelő teamjének képviselői mutatják be – Kelemen-Varga Roland, programmunkatárs, Ökotárs Alapítvány, Oravecz Ágnes, Kiss Julianna, Várnagy Em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- kérdések és válasz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7848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rebuchet MS"/>
              </a:rPr>
              <a:t>13.00-14.00 Ebédszüne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Trebuchet MS"/>
              </a:rPr>
              <a:t>14.00-15.30 Párhuzamos szekciók: civil-állami együttműködések az NCTA keretében: </a:t>
            </a: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A támogatott projektek megvalósítása során együttműködő állami intézmények és civil mutatják be közös munkájukat panelbeszélgetés keretébe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lang="hu-HU" sz="2000" spc="-1" strike="noStrike">
                <a:solidFill>
                  <a:srgbClr val="000000"/>
                </a:solidFill>
                <a:latin typeface="Trebuchet MS"/>
              </a:rPr>
              <a:t>1) Rendőrség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lang="hu-HU" sz="2000" spc="-1" strike="noStrike">
                <a:solidFill>
                  <a:srgbClr val="000000"/>
                </a:solidFill>
                <a:latin typeface="Trebuchet MS"/>
              </a:rPr>
              <a:t>2) Büntetés-végrehajtá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lang="hu-HU" sz="2000" spc="-1" strike="noStrike">
                <a:solidFill>
                  <a:srgbClr val="000000"/>
                </a:solidFill>
                <a:latin typeface="Trebuchet MS"/>
              </a:rPr>
              <a:t>3) Egészségügyi és szociális ellátórendsz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A panelbeszélgetések témái: Hogyan élték meg az adott állami intézmény képviselői a civil szervezettel való együttműködést a maguk szemszögéből? Hogyan jött létre és fejlődött az együtt-működés? Mi lett a közös munka eredménye és hatása? Hogyan tudja az intézmény az együttműködés eredményeit saját munkájába beépíteni a jövőben? Mit lehetne fejleszteni, másképp csinálni?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39640" y="189000"/>
            <a:ext cx="7156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4600" indent="-17460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821400"/>
                </a:solidFill>
                <a:latin typeface="Trebuchet MS"/>
              </a:rPr>
              <a:t>A konferencia program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5596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Trebuchet MS"/>
              </a:rPr>
              <a:t>15.45-17.00 Párhozamos szekciók: a támogatott projektek és eredményeik fenntarthatósága, utóélete: b</a:t>
            </a: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eszélgetések olyan támogatott projektek képviselővel, amelyeknek – különböző eszközökkel – sikerült fennmaradó hatást elérniük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lang="hu-HU" sz="2000" spc="-1" strike="noStrike">
                <a:solidFill>
                  <a:srgbClr val="000000"/>
                </a:solidFill>
                <a:latin typeface="Trebuchet MS"/>
              </a:rPr>
              <a:t>1) Önkéntes bázi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rebuchet MS"/>
              </a:rPr>
              <a:t>2) Alternatív forrásszerzé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rebuchet MS"/>
              </a:rPr>
              <a:t>3) Mozgalo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A szekciók témái: Melyek voltak a projekt utóéletének kulcstényezői, mi kellett az eredmények sikeres továbbviteléhez? Mit történt a projekt zárása óta eltelt időben, milyen további eredmények születtek? Mik a tervek, kilátások a jövőre? Ha fennmaradó hatásokat nem sikerült elérni – mire lett volna szükség ehhez, ami nem volt meg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17.00-17.15 Plenáris összegzé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39640" y="189000"/>
            <a:ext cx="7156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4600" indent="-17460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821400"/>
                </a:solidFill>
                <a:latin typeface="Trebuchet MS"/>
              </a:rPr>
              <a:t>A konferencia program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82803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rebuchet MS"/>
              </a:rPr>
              <a:t>Április 7 – ‘Nemzetközi Nap’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Trebuchet MS"/>
              </a:rPr>
              <a:t>10.00-11.15 Plenáris előadások: a “szűkülő civil tér’ mint világméretű jelenség és a nemzetközi szervezetek szerep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- Az ENSZ Emberi Jogi Főbiztos Irodájának tevékenysége és a civil szervezetek – Paul d’Auchamp, az Európai régiós iroda vezetője (egyeztetés alatt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- Az emberi jogok és a civil szervezetek Európában – Waltraud Heller programmenedzser, Európai Unió Alapjogi Közpo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- A civil szektor helyzetet a világban – a CIVICUS Monitor bemutatása: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rianna Belalba, CIVICU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- A donor közösség szempontjai – alkalmazkodás a megváltozott helyzetben – Hanna Surmatz jogi tanácsadó, Európai Alapítványi Közpo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539640" y="189000"/>
            <a:ext cx="7156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4600" indent="-17460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821400"/>
                </a:solidFill>
                <a:latin typeface="Trebuchet MS"/>
              </a:rPr>
              <a:t>A konferencia program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640" y="1052280"/>
            <a:ext cx="784872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Trebuchet MS"/>
              </a:rPr>
              <a:t>11.30-12.30 Panelbeszélgetés a közép-európai helyzetről – hogyan jelenik meg a “szűkülő civil tér” a régióban, milyen hatásai és gyakorlati következményi érzékelhetők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Az EGT/Norvég Alapok civil programjainak lebonyolítóval – lengyel, szlovák, román és bolgár alapítványok vezetőivel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Ionut Sibian, Civil Társadalom Fejlesztéséért Alapítvány (RO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Ewa Kulik, Bátory Alapítvány (PL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Ilko Jordanov, Nyílt Társadalom Alapítvány (BG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Peter Medved, Ekopolis Alapítvány/Jan Orlovsky, Nyílt Társadalom Alapítvány (SK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moderál Móra Veronik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12.30-13.30 Ebédszünet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539640" y="189000"/>
            <a:ext cx="7156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4600" indent="-17460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821400"/>
                </a:solidFill>
                <a:latin typeface="Trebuchet MS"/>
              </a:rPr>
              <a:t>A konferencia program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993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Trebuchet MS"/>
              </a:rPr>
              <a:t>13.30-15.00 Rövid bemutatók: mit tanulhatunk a térségben megvalósított, támogatott projektektől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Az EGT/Norvég Alapok civil programjai támogatásával Lengyelországban, Romániában, Görögországban és Cipruson megvalósított projektek bemutatása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- Katarzyna Batko-Tołuć, Citizens Network Watchdog Pola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- Adrian Szelmenczi, ActiveWatch Roman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- Zoe Georgiou, Urban Gorillas, Cypru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A hazai lebonyolító alapítványok Bulgáriába, Ciprusra, Görögországban, Lengyelországba, Romániába és Szlovéniába tett tanulmányútjainak összefoglalása – Nun András igazgató, Autonómia Alapítvány, Horváth Gergő, Ökotárs Alapítván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15.00-15.15 Zárószó: Ingjerd Haugen, főtanácsadó, Norvégia Külügyminisztérium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948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539640" y="189000"/>
            <a:ext cx="7156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4600" indent="-17460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821400"/>
                </a:solidFill>
                <a:latin typeface="Trebuchet MS"/>
              </a:rPr>
              <a:t>A konferencia program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1403280" y="155736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Trebuchet MS"/>
              </a:rPr>
              <a:t>Köszönjük a figyelmet!</a:t>
            </a:r>
            <a:br>
              <a:rPr sz="4400"/>
            </a:br>
            <a:r>
              <a:rPr b="0" lang="hu-HU" sz="4400" spc="-1" strike="noStrike">
                <a:solidFill>
                  <a:srgbClr val="ffffff"/>
                </a:solidFill>
                <a:latin typeface="Trebuchet MS"/>
              </a:rPr>
              <a:t>norvegcivilalap.h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"/>
          <p:cNvPicPr/>
          <p:nvPr/>
        </p:nvPicPr>
        <p:blipFill>
          <a:blip r:embed="rId1"/>
          <a:stretch/>
        </p:blipFill>
        <p:spPr>
          <a:xfrm>
            <a:off x="4118040" y="2060640"/>
            <a:ext cx="4851360" cy="35049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320" y="715680"/>
            <a:ext cx="8373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u-HU" sz="3600" spc="-1" strike="noStrike">
                <a:solidFill>
                  <a:srgbClr val="003e7a"/>
                </a:solidFill>
                <a:latin typeface="Trebuchet MS"/>
              </a:rPr>
              <a:t>Az EGT/Norvég Finanszírozási Mechanizmus </a:t>
            </a:r>
            <a:endParaRPr b="0" lang="en-US" sz="3600" spc="-1" strike="noStrike">
              <a:solidFill>
                <a:srgbClr val="003e7a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50440" y="1988640"/>
            <a:ext cx="51735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80" indent="0"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Európai Gazdasági Térséghez tartozó, de nem uniós országok – </a:t>
            </a:r>
            <a:r>
              <a:rPr b="0" lang="hu-HU" sz="2000" spc="-1" strike="noStrike">
                <a:solidFill>
                  <a:srgbClr val="004586"/>
                </a:solidFill>
                <a:latin typeface="Trebuchet MS"/>
              </a:rPr>
              <a:t>Norvégia, Izland és Liechtenstein</a:t>
            </a: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 – programja az Európai Unióhoz újabban csatlakozott illetve gyengébben fejlett országok felzárkóztatására és támogatására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880" indent="0"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Célja a kontinensen belüli </a:t>
            </a:r>
            <a:r>
              <a:rPr b="0" lang="hu-HU" sz="2000" spc="-1" strike="noStrike">
                <a:solidFill>
                  <a:srgbClr val="004586"/>
                </a:solidFill>
                <a:latin typeface="Trebuchet MS"/>
              </a:rPr>
              <a:t>társadalmi-gazdasági egyenlőtlenségek csökkentése</a:t>
            </a: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 és a támogató illetve a kedvezményezett országok közötti </a:t>
            </a:r>
            <a:r>
              <a:rPr b="0" lang="hu-HU" sz="2000" spc="-1" strike="noStrike">
                <a:solidFill>
                  <a:srgbClr val="004586"/>
                </a:solidFill>
                <a:latin typeface="Trebuchet MS"/>
              </a:rPr>
              <a:t>kétoldalú kapcsolatok építése</a:t>
            </a: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. A civil társadalom fejlesztése mind a 15 támogatott országban kiemelt prioritásként szerepel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880" indent="0"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Bővebb információ: </a:t>
            </a:r>
            <a:r>
              <a:rPr b="0" lang="hu-HU" sz="2000" spc="-1" strike="noStrike">
                <a:solidFill>
                  <a:srgbClr val="00427a"/>
                </a:solidFill>
                <a:latin typeface="Trebuchet MS"/>
              </a:rPr>
              <a:t>eeagrants.or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39640" y="189000"/>
            <a:ext cx="7156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4600" indent="-17460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821400"/>
                </a:solidFill>
                <a:latin typeface="Trebuchet MS"/>
              </a:rPr>
              <a:t>A támogató és a lebonyolító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u-HU" sz="4000" spc="-1" strike="noStrike">
                <a:solidFill>
                  <a:srgbClr val="003e7a"/>
                </a:solidFill>
                <a:latin typeface="Trebuchet MS"/>
              </a:rPr>
              <a:t>2009-14 finanszírozási ciklus: a kezdetek</a:t>
            </a:r>
            <a:endParaRPr b="0" lang="en-US" sz="4000" spc="-1" strike="noStrike">
              <a:solidFill>
                <a:srgbClr val="003e7a"/>
              </a:solidFill>
              <a:latin typeface="Trebuchet MS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539640" y="2276640"/>
            <a:ext cx="806472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887400" indent="-534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Trebuchet MS"/>
              </a:rPr>
              <a:t>2011. november 15: </a:t>
            </a:r>
            <a:r>
              <a:rPr b="0" lang="hu-HU" sz="2100" spc="-1" strike="noStrike">
                <a:solidFill>
                  <a:srgbClr val="000000"/>
                </a:solidFill>
                <a:latin typeface="Trebuchet MS"/>
              </a:rPr>
              <a:t>Hatályba lép a kétoldalú együttműködési megállapodás (Memorandum of Understanding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887400" indent="-534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rebuchet MS"/>
              <a:buAutoNum type="arabicPeriod" startAt="2011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Trebuchet MS"/>
              </a:rPr>
              <a:t>december 21: </a:t>
            </a:r>
            <a:r>
              <a:rPr b="0" lang="hu-HU" sz="2100" spc="-1" strike="noStrike">
                <a:solidFill>
                  <a:srgbClr val="000000"/>
                </a:solidFill>
                <a:latin typeface="Trebuchet MS"/>
              </a:rPr>
              <a:t>A Finanszírozási Mechanizmus Iroda által a civil alap lebonyolítására kiírt nyílt pályázat első fordulójának határideje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887400" indent="-534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rebuchet MS"/>
              <a:buAutoNum type="arabicPeriod" startAt="2011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hu-HU" sz="2100" spc="-1" strike="noStrike">
                <a:solidFill>
                  <a:srgbClr val="000000"/>
                </a:solidFill>
                <a:latin typeface="Trebuchet MS"/>
              </a:rPr>
              <a:t>augusztus 31: </a:t>
            </a:r>
            <a:r>
              <a:rPr b="0" lang="hu-HU" sz="2100" spc="-1" strike="noStrike">
                <a:solidFill>
                  <a:srgbClr val="000000"/>
                </a:solidFill>
                <a:latin typeface="Trebuchet MS"/>
              </a:rPr>
              <a:t>A második fordulós, részletes programterv beadásának határidej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887400" indent="-534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Trebuchet MS"/>
              </a:rPr>
              <a:t>2012. december 21</a:t>
            </a:r>
            <a:r>
              <a:rPr b="0" lang="hu-HU" sz="2100" spc="-1" strike="noStrike">
                <a:solidFill>
                  <a:srgbClr val="000000"/>
                </a:solidFill>
                <a:latin typeface="Trebuchet MS"/>
              </a:rPr>
              <a:t>: A Finanszírozási Mechanizmus Iroda és az Ökotárs Alapítvány közötti szerződés megkötése (Programme Implementation Agreement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887400" indent="-534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9640" y="189000"/>
            <a:ext cx="7156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4600" indent="-17460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821400"/>
                </a:solidFill>
                <a:latin typeface="Trebuchet MS"/>
              </a:rPr>
              <a:t>A támogató és a lebonyolító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58560" y="1413000"/>
            <a:ext cx="66978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Az </a:t>
            </a:r>
            <a:r>
              <a:rPr b="0" lang="hu-HU" sz="2400" spc="-1" strike="noStrike">
                <a:solidFill>
                  <a:srgbClr val="00427a"/>
                </a:solidFill>
                <a:latin typeface="Trebuchet MS"/>
              </a:rPr>
              <a:t>Ökotárs Alapítvány</a:t>
            </a: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 nem nyereségérdekelt, politikától független, a környezet állapotának javulásáért és a hazai civil szféra és lakosság környezeti érzékenységének és tudatosságának fejlesztéséért tevékenykedő szervezet. 1992-ben, amerikai magánalapítványok kezdeményezésére jött létr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rebuchet MS"/>
              </a:rPr>
              <a:t>1056 Budapest, Szerb utca 17-1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rebuchet MS"/>
              </a:rPr>
              <a:t>(06 1) 411 350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rebuchet MS"/>
              </a:rPr>
              <a:t>okotars@norvegcivilalap.hu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611280" y="189000"/>
            <a:ext cx="7156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4600" indent="-17460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821400"/>
                </a:solidFill>
                <a:latin typeface="Trebuchet MS"/>
              </a:rPr>
              <a:t>A támogató és a lebonyolítók, Ökotárs Alapítván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Kép 1" descr=""/>
          <p:cNvPicPr/>
          <p:nvPr/>
        </p:nvPicPr>
        <p:blipFill>
          <a:blip r:embed="rId2"/>
          <a:stretch/>
        </p:blipFill>
        <p:spPr>
          <a:xfrm>
            <a:off x="2916360" y="4869000"/>
            <a:ext cx="3654360" cy="11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84320" y="1066320"/>
            <a:ext cx="69976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Az </a:t>
            </a:r>
            <a:r>
              <a:rPr b="0" lang="hu-HU" sz="2400" spc="-1" strike="noStrike">
                <a:solidFill>
                  <a:srgbClr val="00427a"/>
                </a:solidFill>
                <a:latin typeface="Trebuchet MS"/>
              </a:rPr>
              <a:t>Autonómia Alapítvány</a:t>
            </a: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 1990-ben a civil társadalom fejlődésének elősegítésére alakult magánalapítvány. Elsősorban olyan civil kezdeményezéseket támogat, amelyek során a résztvevők a rendelkezésükre álló helyi erőforrásokat is mozgósítják céljaik elérése érdekében. Hátrányos helyzetű emberek körében végzett fejlesztő-adományozó programjainkban roma és nem roma civil szervezetek a fő partnereink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rebuchet MS"/>
              </a:rPr>
              <a:t>1137 Budapest, Pozsonyi út 14. II/9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rebuchet MS"/>
              </a:rPr>
              <a:t>(06 1) 237-6020 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rebuchet MS"/>
              </a:rPr>
              <a:t>autonomia@norvegcivilalap.hu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611280" y="189000"/>
            <a:ext cx="7156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4600" indent="-17460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821400"/>
                </a:solidFill>
                <a:latin typeface="Trebuchet MS"/>
              </a:rPr>
              <a:t>A támogató és a lebonyolítók, Autonómia Alapítván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Kép 1" descr=""/>
          <p:cNvPicPr/>
          <p:nvPr/>
        </p:nvPicPr>
        <p:blipFill>
          <a:blip r:embed="rId2"/>
          <a:stretch/>
        </p:blipFill>
        <p:spPr>
          <a:xfrm>
            <a:off x="2392200" y="4724280"/>
            <a:ext cx="4343400" cy="19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53560" y="980640"/>
            <a:ext cx="6913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0" lang="hu-HU" sz="2400" spc="-1" strike="noStrike">
                <a:solidFill>
                  <a:srgbClr val="00427a"/>
                </a:solidFill>
                <a:latin typeface="Trebuchet MS"/>
              </a:rPr>
              <a:t>DemNet Alapítvány</a:t>
            </a: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 1996 óta segíti a demokratikus civil társadalom fejlesztését Magyarországon, a Nyugat-Balkánon és a Keleti Partnerség országaiban. Célja a civil társadalom fenntartható működésének támogatása, a civil társadalom tagjai szerepvállalásának ösztönzése és társadalmi beágyazódásuk erősítés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rebuchet MS"/>
              </a:rPr>
              <a:t>1052 Budapest, Apáczai Csere János u. 1. IV/40. 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rebuchet MS"/>
              </a:rPr>
              <a:t>(06 1 411-0410, 411-0411,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rebuchet MS"/>
              </a:rPr>
              <a:t>demnet@norvegcivilalap.hu</a:t>
            </a:r>
            <a:r>
              <a:rPr b="0" lang="hu-H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11280" y="189000"/>
            <a:ext cx="7156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4600" indent="-17460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821400"/>
                </a:solidFill>
                <a:latin typeface="Trebuchet MS"/>
              </a:rPr>
              <a:t>A támogató és a lebonyolítók, Demnet Alapítván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Kép 1" descr=""/>
          <p:cNvPicPr/>
          <p:nvPr/>
        </p:nvPicPr>
        <p:blipFill>
          <a:blip r:embed="rId2"/>
          <a:stretch/>
        </p:blipFill>
        <p:spPr>
          <a:xfrm>
            <a:off x="2916360" y="4508640"/>
            <a:ext cx="280800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71640" y="1412640"/>
            <a:ext cx="6913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0" lang="hu-HU" sz="2400" spc="-1" strike="noStrike">
                <a:solidFill>
                  <a:srgbClr val="00427a"/>
                </a:solidFill>
                <a:latin typeface="Trebuchet MS"/>
              </a:rPr>
              <a:t>Kárpátok Alapítvány-Magyarország</a:t>
            </a: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 egy független, non-profit, civil szervezet, melynek küldetése a Kárpátok régióban élő emberek életminőségének javítása, a régió társadalmi, etnikai, kulturális és környezeti értékeinek megőrzése és fenntartható fejlődésének elősegítés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rebuchet MS"/>
              </a:rPr>
              <a:t>3300 Eger, Mekcsey u.1.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Trebuchet MS"/>
              </a:rPr>
              <a:t>(06 36) 516 750 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rebuchet MS"/>
              </a:rPr>
              <a:t>karpatok@norvegcivilalap.hu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11280" y="189000"/>
            <a:ext cx="7156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4600" indent="-17460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821400"/>
                </a:solidFill>
                <a:latin typeface="Trebuchet MS"/>
              </a:rPr>
              <a:t>A támogató és a lebonyolítók, Kárpátok Alapítvány - Magyarorszá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Kép 1" descr=""/>
          <p:cNvPicPr/>
          <p:nvPr/>
        </p:nvPicPr>
        <p:blipFill>
          <a:blip r:embed="rId2"/>
          <a:stretch/>
        </p:blipFill>
        <p:spPr>
          <a:xfrm>
            <a:off x="2340000" y="4232160"/>
            <a:ext cx="4178160" cy="20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0720" y="-167040"/>
            <a:ext cx="770400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u-HU" sz="4000" spc="-1" strike="noStrike">
                <a:solidFill>
                  <a:srgbClr val="003e7a"/>
                </a:solidFill>
                <a:latin typeface="Trebuchet MS"/>
              </a:rPr>
              <a:t>A program keretei</a:t>
            </a:r>
            <a:endParaRPr b="0" lang="en-US" sz="4000" spc="-1" strike="noStrike">
              <a:solidFill>
                <a:srgbClr val="003e7a"/>
              </a:solidFill>
              <a:latin typeface="Trebuchet MS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622520" y="2160720"/>
            <a:ext cx="611820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11280" y="189000"/>
            <a:ext cx="7156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11280" y="1197000"/>
          <a:ext cx="7848360" cy="4896000"/>
        </p:xfrm>
        <a:graphic>
          <a:graphicData uri="http://schemas.openxmlformats.org/drawingml/2006/table">
            <a:tbl>
              <a:tblPr/>
              <a:tblGrid>
                <a:gridCol w="598320"/>
                <a:gridCol w="1644840"/>
                <a:gridCol w="971280"/>
                <a:gridCol w="1420920"/>
                <a:gridCol w="1247760"/>
                <a:gridCol w="982800"/>
                <a:gridCol w="982440"/>
              </a:tblGrid>
              <a:tr h="523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Kiírás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jekttípu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ljárásre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Kiírás indítás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ámogatási össze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ámogatási kere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ámogatottak szám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8650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kroprojek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Kétforduló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13. február 12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. témakör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x. 120 000 €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I. témakö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x. 140 000 €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696 millió €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 projek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3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Kisprojek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gyforduló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x. 10 000 €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86 millió €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5 projek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Ösztöndíjprogr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gyforduló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00 €/hóna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0 ezer €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 gyakornok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920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Közepes projek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Kétforduló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14. január 13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x. 70 000 €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34 millió €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7 projek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5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Kisprojek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x. 20 000 €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9 projek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fjúsági tanulmányuta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x. 3000 €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 pá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92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Közepes projek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Kétforduló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14. szeptember 1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x. 50 000 €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,6 millió €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6 projek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5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Kisprojek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x. 15 000 €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 projek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98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kciópályáza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13-tól folyamatos 2015 decemberéi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x. 5000 €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85 millió €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 projek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5"/>
          <p:cNvSpPr/>
          <p:nvPr/>
        </p:nvSpPr>
        <p:spPr>
          <a:xfrm>
            <a:off x="5954760" y="2474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0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u-HU" sz="4000" spc="-1" strike="noStrike">
                <a:solidFill>
                  <a:srgbClr val="00427a"/>
                </a:solidFill>
                <a:latin typeface="Trebuchet MS"/>
              </a:rPr>
              <a:t>Pályázati témakörök</a:t>
            </a:r>
            <a:endParaRPr b="0" lang="en-US" sz="4000" spc="-1" strike="noStrike">
              <a:solidFill>
                <a:srgbClr val="003e7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8560" y="1914120"/>
            <a:ext cx="66978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rebuchet MS"/>
              </a:rPr>
              <a:t>emberi jogok és demokrácia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rebuchet MS"/>
              </a:rPr>
              <a:t>női jogok és esélyegyenlőség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rebuchet MS"/>
              </a:rPr>
              <a:t>szervezet- és közösségfejlesztés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rebuchet MS"/>
              </a:rPr>
              <a:t>ifjúsági- és gyermekügyek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rebuchet MS"/>
              </a:rPr>
              <a:t>környezetvédelem és fenntartható fejlődés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rebuchet MS"/>
              </a:rPr>
              <a:t>jóléti szolgáltatások társadalmilag sérülékeny csoportoknak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rebuchet MS"/>
              </a:rPr>
              <a:t>társadalmilag sérülékeny csoportok megerősítése (fókusz: roma integráció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11280" y="189000"/>
            <a:ext cx="7156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4600" indent="-17460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821400"/>
                </a:solidFill>
                <a:latin typeface="Trebuchet MS"/>
              </a:rPr>
              <a:t> </a:t>
            </a:r>
            <a:r>
              <a:rPr b="0" lang="hu-HU" sz="1400" spc="-1" strike="noStrike">
                <a:solidFill>
                  <a:srgbClr val="821400"/>
                </a:solidFill>
                <a:latin typeface="Trebuchet MS"/>
              </a:rPr>
              <a:t>A program kerete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900000" y="5200560"/>
            <a:ext cx="7272360" cy="1584360"/>
          </a:xfrm>
          <a:prstGeom prst="roundRect">
            <a:avLst>
              <a:gd name="adj" fmla="val 16667"/>
            </a:avLst>
          </a:prstGeom>
          <a:solidFill>
            <a:srgbClr val="d4e4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26547c"/>
                </a:solidFill>
                <a:latin typeface="Trebuchet MS"/>
              </a:rPr>
              <a:t>A civil alap átfogó célja, hogy „segít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000" spc="-1" strike="noStrike">
                <a:solidFill>
                  <a:srgbClr val="26547c"/>
                </a:solidFill>
                <a:latin typeface="Trebuchet MS"/>
              </a:rPr>
              <a:t>a civil társadalom fejlődését</a:t>
            </a:r>
            <a:r>
              <a:rPr b="0" lang="hu-HU" sz="2000" spc="-1" strike="noStrike">
                <a:solidFill>
                  <a:srgbClr val="26547c"/>
                </a:solidFill>
                <a:latin typeface="Trebuchet MS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26547c"/>
                </a:solidFill>
                <a:latin typeface="Trebuchet MS"/>
              </a:rPr>
              <a:t>valamint erősítse részvételét a társadalmi igazságosság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26547c"/>
                </a:solidFill>
                <a:latin typeface="Trebuchet MS"/>
              </a:rPr>
              <a:t>a demokrácia és a fenntartható fejlődés alakításáb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15:48:13Z</dcterms:created>
  <dc:creator>Sólyom Éva</dc:creator>
  <dc:description/>
  <dc:language>en-US</dc:language>
  <cp:lastModifiedBy>move</cp:lastModifiedBy>
  <dcterms:modified xsi:type="dcterms:W3CDTF">2017-03-29T13:19:22Z</dcterms:modified>
  <cp:revision>32</cp:revision>
  <dc:subject/>
  <dc:title>Norvég Civil Támogatási Alap 2013</dc:title>
</cp:coreProperties>
</file>